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042-597C-4D8D-954E-021C722B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9A1-54A6-45BF-922A-1FD36A60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9C9-92CC-4A53-8566-6F1A516A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EA8-BA9D-4FA9-B7DD-25B33DE5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3C51-D51B-47A3-BAC2-E26BE833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D1DE-6FAA-4079-94EA-2CA58460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F689-27E0-46F5-BAF6-C33F199F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869F-37C9-42A4-9F82-68218D3F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9DBA-0A56-4D28-B19B-4EB3598E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4504-E7CD-466C-AF25-F51B91B0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17FD-0746-49AA-9B2D-1141BB75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D96-0073-4B1E-936F-F952352A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953E-A5EB-4C4A-B7EB-E1489A6C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51C4-BAB2-47E4-958D-7253823C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43E9-D3D3-4B2E-B100-91206CAE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BD82-C9A9-4CEE-B542-6F491429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C415-CFF1-450C-8552-DCE497AE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680DE-8004-40B1-8493-975A3C41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2D653-0B97-426A-B49C-F47BCFBF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91BBB-DB57-49DD-B732-4D81CCB6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82298-1121-4DB3-B21A-EE0EFA59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A0BF-A4F3-43C8-B59A-D0E00B94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729-6E55-4135-822B-0BD8E59A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A0234-9E9D-4221-B751-39668385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F9DF5-B7CA-43B9-AB21-9C58406A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F5F1A-6BBF-4BFA-8A3C-84C679C1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0C18-A603-4DBF-A802-5A8EBAA5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AAB8E-B8D4-404E-9B77-7BF288A7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30D70-C8C4-4677-9D32-F9C8F649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73962-680C-4604-A34B-30448519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F9662-5598-417B-B746-B16DA160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C3958-644E-447A-A39F-B568F155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7AF79-DEE9-4EFD-A9A8-2F885F36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831-0FCF-4D49-9871-2B654F71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F7380-60A0-40EB-9E06-8EA64FC1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A8DE3-3409-41F0-9811-3AE23412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718F5-D814-4EDA-B6A8-69774F38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D1C7B-9EAC-4449-A107-3C63F540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D411D-BDA5-4082-860B-A2D6509E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7B397-9B6E-4257-BFB9-97DFCAF9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DCCDC-2C7D-4B78-BB8D-A389D8D0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D4ED5-B27F-4652-A17F-763AEA64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88A3-9692-4B32-B58D-E4E5E04E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8E8E0-71B7-4ED7-83ED-FDE10FDC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372-0304-41B5-9D0D-44CC6610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86FD1-6BED-4560-BC49-D30A1595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91173-8E0B-48D0-8353-F06B11F3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79437-412F-48D2-8FF9-15F65651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79C10-FABB-467C-9BF1-FB5EF5B2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347B0-4B29-4084-B68F-08CE0D31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95341-749E-45A5-A4A4-3355B83A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FFDCC-EA77-40F9-ABD5-B99C6CC3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685E6-33A3-4E33-B960-7A0361E9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BF429-D48D-44B7-B7B3-4B17FB75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D9F4B-B277-42F6-9889-E34AFDBF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398-2B2C-45DB-924C-0B4CBC4A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47049-1684-44CA-BD70-770303F1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4BB81-9F64-4E27-B2F4-42E5AFAE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23896-144C-40E2-90D8-C79FAB4A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3C155-A55D-424B-949C-2C4B4386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9BF8C-1E9F-48A9-A9D4-A26BA355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869AD-78B9-4E4F-A205-11302DDE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AA18C-36F0-4D64-81A9-E3F655A6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F50AE-03D8-46F2-BDDF-2020C555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CE93C-DA92-404D-9827-CC352D56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D66EC-CE06-49C3-A729-A7F1B856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9AE-2F80-4B9C-A898-CA93D6C6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8E42B-E9E3-4DFE-8C65-F875BD98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2FB9C-27B7-4453-8786-C8C9DB75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D2115-BD55-41A3-9912-CC92CD02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13704-DE43-475D-BD85-B87408E8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20627-1270-4CA0-8DD8-BD11EA5F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5498D-D7F0-4AE8-B291-BF8B5757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25D18-A459-4F2E-87EB-35D811B1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3F96C-808F-4541-827C-5C8AC14C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2C78F-B0BA-46E0-8243-52FB59C3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786DE-D926-49E0-A600-B92CEDF3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C00-B1C3-4DCC-95CC-6834E093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E5075-FF29-4ED5-AE73-E3FF400F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E5C4B-15FF-449E-A322-DBB77978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2C932-6212-4A24-B791-7DBC458B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198F8-F797-45D5-A803-BFB5F9A3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A21DF-0A1D-49F9-8F85-F36553FA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47A-5A09-41D7-A5A8-0298FFD6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BBB4-E4D5-4B38-8EEE-F69FA7D997F1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C216-E034-4323-BC9E-59489F0538A4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8114-62AD-4819-B3DD-656D2720E9DB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4ED5-4ADD-41FB-9816-2D947172A28D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39D8-71B9-4E5C-B659-6B724FA94D25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E40A-3047-404C-85A1-2C3BB8532F21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0767-8471-43F4-9F20-A10B7D6FCC7E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mailto:cro@mail.orb.ru" TargetMode="External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78"/>
          <p:cNvSpPr/>
          <p:nvPr/>
        </p:nvSpPr>
        <p:spPr>
          <a:xfrm>
            <a:off x="8640720" y="3959280"/>
            <a:ext cx="3589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36" name="TextBox 1" descr=""/>
          <p:cNvPicPr/>
          <p:nvPr/>
        </p:nvPicPr>
        <p:blipFill>
          <a:blip r:embed="rId2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sp>
        <p:nvSpPr>
          <p:cNvPr id="337" name="Подзаголовок 2"/>
          <p:cNvSpPr/>
          <p:nvPr/>
        </p:nvSpPr>
        <p:spPr>
          <a:xfrm>
            <a:off x="3360600" y="5589720"/>
            <a:ext cx="5662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РЦОИ Самочеляев В.М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руководителя РЦОИ  Собченко Е.В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8" name="Заголовок 1"/>
          <p:cNvSpPr/>
          <p:nvPr/>
        </p:nvSpPr>
        <p:spPr>
          <a:xfrm>
            <a:off x="936720" y="1989000"/>
            <a:ext cx="74167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аботы апелляционной комиссии ГИА-9</a:t>
            </a:r>
            <a:endParaRPr b="0" lang="en-US" sz="4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611280" y="1413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2"/>
          <p:cNvSpPr/>
          <p:nvPr/>
        </p:nvSpPr>
        <p:spPr>
          <a:xfrm>
            <a:off x="395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3"/>
          <a:stretch/>
        </p:blipFill>
        <p:spPr>
          <a:xfrm>
            <a:off x="4680" y="2109960"/>
            <a:ext cx="9134640" cy="2638080"/>
          </a:xfrm>
          <a:prstGeom prst="rect">
            <a:avLst/>
          </a:prstGeom>
          <a:ln w="0">
            <a:noFill/>
          </a:ln>
        </p:spPr>
      </p:pic>
      <p:sp>
        <p:nvSpPr>
          <p:cNvPr id="374" name="TextBox 3"/>
          <p:cNvSpPr/>
          <p:nvPr/>
        </p:nvSpPr>
        <p:spPr>
          <a:xfrm>
            <a:off x="826920" y="522936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с в РЦОИ –в день подачи апелляции!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2"/>
          <p:cNvSpPr/>
          <p:nvPr/>
        </p:nvSpPr>
        <p:spPr>
          <a:xfrm>
            <a:off x="468360" y="981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8" name="TextBox 3"/>
          <p:cNvSpPr/>
          <p:nvPr/>
        </p:nvSpPr>
        <p:spPr>
          <a:xfrm>
            <a:off x="649440" y="1843200"/>
            <a:ext cx="798984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ля членов АК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ы АК должны помнить, что рассмотрение апелляции проходит в спокойной и доброжелательной обстановке. На заседании АК необходимо соблюдать этические нормы поведения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40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смотрении апелляции о нарушении Порядка члены АК должны: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у ответственного секретаря АК информацию о дате, месте и времени рассмотрения апелляций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иться на заседание АК в назначенное время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ься с апелляцией о нарушении Порядка (форма ППЭ-02) и протоколом рассмотрения апелляции о нарушении Порядка (форма ППЭ-03)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апелляцию и определить соответствие изложенных в апелляции фактов и реальной ситуации в ППЭ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ести свое решение: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тклонении апелляции, если обстоятельства, изложенные в апелляции, признаны несущественными или не имеющими место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marL="677880"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довлетворении апелляции, если факты, изложенные в апелляции, оказали существенное влияние на результаты ГИА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81" name="TextBox 2"/>
          <p:cNvSpPr/>
          <p:nvPr/>
        </p:nvSpPr>
        <p:spPr>
          <a:xfrm>
            <a:off x="468360" y="981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324000" y="1766880"/>
            <a:ext cx="87343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смотрении апелляции о несогласии с выставленными баллами члены АК должны: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у ответственного секретаря АК информацию о дате, месте и времени рассмотрения апелляции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иться на заседание АК в назначенное время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ься с апелляционным комплектом документов, заключением привлеченного эксперта ПК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представленный апелляционный комплект документов и заключение привлеченного эксперта ПК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ести свое решение: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тклонении апелляции и сохранении выставленных баллов (отсутствие технических ошибок и (или) ошибок оценивания развернутых ответов (в том числе устных ответов)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довлетворении апелляции и перерасчете баллов (наличие технических ошибок и (или) ошибок оценивания развернутых ответов (в том числе устных ответов);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стоверить своей подписью протокол рассмотрения апелляции о несогласии с выставленными баллами (форма 2-АП) и приложения к протоколу (форма 2-АП-1, 2-АП-2, 2-АП-3)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85" name="TextBox 2"/>
          <p:cNvSpPr/>
          <p:nvPr/>
        </p:nvSpPr>
        <p:spPr>
          <a:xfrm>
            <a:off x="395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3"/>
          <a:stretch/>
        </p:blipFill>
        <p:spPr>
          <a:xfrm>
            <a:off x="509760" y="2217600"/>
            <a:ext cx="8383320" cy="343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576360" y="87480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574560" y="1676520"/>
            <a:ext cx="8101080" cy="40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ля привлеченных экспертов ПК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проверки в рамках установления правильности оценивания развернутых ответов апеллянта привлекаются эксперты ПК, которым в текущем году присвоены статусы ведущих экспертов ПК или старших экспертов ПК, а также имеющие опыт первой, второй и третьей проверок в текущем году и не проверявшие ранее ЭР апеллянтов, в том числе председатели ПК.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установления правильности оценивания ЭР апеллянта в рамках рассмотрения апелляции о несогласии с выставленными баллами может быть привлечен председатель ПК при условии, что он не проверял раннее ЭР апеллянта при проведении первой, второй, третьей проверок.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 рассмотрении апелляций о несогласии с выставленными баллами эксперты ПК должны: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от председателей ПК апелляционный комплект документов;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правильность оценивания развернутых ответов апеллянтов до заседания АК, а также проанализировать предыдущее оценивание развернутых ответов;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письменные заключения о правильности оценивания развернутых ответов или о необходимости изменения первичных баллов за выполнение заданий с развернутым ответом с обязательной содержательной аргументацией и указанием на конкретный критерий оценивания, содержанию которого соответствует выставляемый ими первичный балл;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93" name="TextBox 2"/>
          <p:cNvSpPr/>
          <p:nvPr/>
        </p:nvSpPr>
        <p:spPr>
          <a:xfrm>
            <a:off x="395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611280" y="1969920"/>
            <a:ext cx="835344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ля привлеченных экспертов ПК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ся за консультацией к председателям ПК в случае возникновения затруднений в формулировании однозначного ответа о правильности оценивания развернутых ответов апеллянта;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у ответственного секретаря АК дату, место и время заседания АК      и прибыть в указанное время на заседании АК;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ь, что апелляция проходит в спокойной и доброжелательной обстановке; 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возникновения у апеллянтов или у АК вопросов по оцениванию развернутых ответов дать соответствующие разъяснения.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х этапах работы экспертам ПК запрещается иметь при себе средства связи, фото-, аудио- и видеоаппаратуру, копировать и выносить из помещений для работы ПК, ЭМ, критерии оценивания, протоколы проверки ЭР, а также разглашать информацию, содержащуюся в указанных материалах.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395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3"/>
          <a:stretch/>
        </p:blipFill>
        <p:spPr>
          <a:xfrm>
            <a:off x="219240" y="1986120"/>
            <a:ext cx="870552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401" name="TextBox 2"/>
          <p:cNvSpPr/>
          <p:nvPr/>
        </p:nvSpPr>
        <p:spPr>
          <a:xfrm>
            <a:off x="395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02" name="Рисунок 3" descr=""/>
          <p:cNvPicPr/>
          <p:nvPr/>
        </p:nvPicPr>
        <p:blipFill>
          <a:blip r:embed="rId3"/>
          <a:stretch/>
        </p:blipFill>
        <p:spPr>
          <a:xfrm>
            <a:off x="468360" y="2473200"/>
            <a:ext cx="79930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405" name="TextBox 2"/>
          <p:cNvSpPr/>
          <p:nvPr/>
        </p:nvSpPr>
        <p:spPr>
          <a:xfrm>
            <a:off x="539640" y="836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06" name="Схема 4" descr=""/>
          <p:cNvPicPr/>
          <p:nvPr/>
        </p:nvPicPr>
        <p:blipFill>
          <a:blip r:embed="rId3"/>
          <a:stretch/>
        </p:blipFill>
        <p:spPr>
          <a:xfrm>
            <a:off x="36360" y="1609560"/>
            <a:ext cx="9041040" cy="2181240"/>
          </a:xfrm>
          <a:prstGeom prst="rect">
            <a:avLst/>
          </a:prstGeom>
          <a:ln w="0">
            <a:noFill/>
          </a:ln>
        </p:spPr>
      </p:pic>
      <p:pic>
        <p:nvPicPr>
          <p:cNvPr id="407" name="Схема 34" descr=""/>
          <p:cNvPicPr/>
          <p:nvPr/>
        </p:nvPicPr>
        <p:blipFill>
          <a:blip r:embed="rId4"/>
          <a:stretch/>
        </p:blipFill>
        <p:spPr>
          <a:xfrm>
            <a:off x="176040" y="3067200"/>
            <a:ext cx="8894880" cy="40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539640" y="836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11" name="Схема 4" descr=""/>
          <p:cNvPicPr/>
          <p:nvPr/>
        </p:nvPicPr>
        <p:blipFill>
          <a:blip r:embed="rId3"/>
          <a:stretch/>
        </p:blipFill>
        <p:spPr>
          <a:xfrm>
            <a:off x="36360" y="2060640"/>
            <a:ext cx="9041040" cy="3260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3"/>
          <a:stretch/>
        </p:blipFill>
        <p:spPr>
          <a:xfrm>
            <a:off x="162000" y="1357200"/>
            <a:ext cx="8820000" cy="41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3" descr=""/>
          <p:cNvPicPr/>
          <p:nvPr/>
        </p:nvPicPr>
        <p:blipFill>
          <a:blip r:embed="rId3"/>
          <a:stretch/>
        </p:blipFill>
        <p:spPr>
          <a:xfrm>
            <a:off x="17640" y="0"/>
            <a:ext cx="5257800" cy="681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3" descr=""/>
          <p:cNvPicPr/>
          <p:nvPr/>
        </p:nvPicPr>
        <p:blipFill>
          <a:blip r:embed="rId3"/>
          <a:stretch/>
        </p:blipFill>
        <p:spPr>
          <a:xfrm>
            <a:off x="138240" y="92160"/>
            <a:ext cx="5556240" cy="6765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3" descr=""/>
          <p:cNvPicPr/>
          <p:nvPr/>
        </p:nvPicPr>
        <p:blipFill>
          <a:blip r:embed="rId3"/>
          <a:stretch/>
        </p:blipFill>
        <p:spPr>
          <a:xfrm>
            <a:off x="60480" y="-1440"/>
            <a:ext cx="5860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3" descr=""/>
          <p:cNvPicPr/>
          <p:nvPr/>
        </p:nvPicPr>
        <p:blipFill>
          <a:blip r:embed="rId3"/>
          <a:stretch/>
        </p:blipFill>
        <p:spPr>
          <a:xfrm>
            <a:off x="0" y="33480"/>
            <a:ext cx="5710320" cy="682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3" descr=""/>
          <p:cNvPicPr/>
          <p:nvPr/>
        </p:nvPicPr>
        <p:blipFill>
          <a:blip r:embed="rId3"/>
          <a:stretch/>
        </p:blipFill>
        <p:spPr>
          <a:xfrm>
            <a:off x="17640" y="23760"/>
            <a:ext cx="5089320" cy="683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4" descr=""/>
          <p:cNvPicPr/>
          <p:nvPr/>
        </p:nvPicPr>
        <p:blipFill>
          <a:blip r:embed="rId3"/>
          <a:stretch/>
        </p:blipFill>
        <p:spPr>
          <a:xfrm>
            <a:off x="85680" y="0"/>
            <a:ext cx="5181480" cy="683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432" name="TextBox 2"/>
          <p:cNvSpPr/>
          <p:nvPr/>
        </p:nvSpPr>
        <p:spPr>
          <a:xfrm>
            <a:off x="379440" y="157644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Оренбург, ул. Пушкинская, д. 24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 (3532) 77-47-31, 77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 u="sng">
                <a:solidFill>
                  <a:srgbClr val="0080ff"/>
                </a:solidFill>
                <a:uFillTx/>
                <a:latin typeface="Times New Roman"/>
                <a:ea typeface="Times New Roman"/>
                <a:hlinkClick r:id="rId3"/>
              </a:rPr>
              <a:t>cro@mail.orb.ru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 защищенной эл. почты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-SEV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435" name="TextBox 2"/>
          <p:cNvSpPr/>
          <p:nvPr/>
        </p:nvSpPr>
        <p:spPr>
          <a:xfrm>
            <a:off x="395280" y="285264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3"/>
          <a:stretch/>
        </p:blipFill>
        <p:spPr>
          <a:xfrm>
            <a:off x="243000" y="1862280"/>
            <a:ext cx="8658000" cy="313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2"/>
          <a:srcRect l="0" t="7484" r="0" b="0"/>
          <a:stretch/>
        </p:blipFill>
        <p:spPr>
          <a:xfrm>
            <a:off x="247680" y="1484280"/>
            <a:ext cx="8237520" cy="1081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"/>
          <p:cNvPicPr/>
          <p:nvPr/>
        </p:nvPicPr>
        <p:blipFill>
          <a:blip r:embed="rId3"/>
          <a:srcRect l="11689" t="0" r="3708" b="0"/>
          <a:stretch/>
        </p:blipFill>
        <p:spPr>
          <a:xfrm>
            <a:off x="2301840" y="3816360"/>
            <a:ext cx="6842160" cy="1944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4"/>
          <a:stretch/>
        </p:blipFill>
        <p:spPr>
          <a:xfrm>
            <a:off x="17640" y="2565360"/>
            <a:ext cx="2466720" cy="442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"/>
          <p:cNvSpPr/>
          <p:nvPr/>
        </p:nvSpPr>
        <p:spPr>
          <a:xfrm>
            <a:off x="468360" y="105264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ая база работы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2" name="Рисунок 3" descr=""/>
          <p:cNvPicPr/>
          <p:nvPr/>
        </p:nvPicPr>
        <p:blipFill>
          <a:blip r:embed="rId2"/>
          <a:srcRect l="18945" t="0" r="0" b="461"/>
          <a:stretch/>
        </p:blipFill>
        <p:spPr>
          <a:xfrm>
            <a:off x="2692440" y="2349360"/>
            <a:ext cx="3759120" cy="4508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55" name="TextBox 2"/>
          <p:cNvSpPr/>
          <p:nvPr/>
        </p:nvSpPr>
        <p:spPr>
          <a:xfrm>
            <a:off x="815040" y="1341360"/>
            <a:ext cx="74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апелляционной комиссии в 2025 году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6" name="TextBox 3"/>
          <p:cNvSpPr/>
          <p:nvPr/>
        </p:nvSpPr>
        <p:spPr>
          <a:xfrm>
            <a:off x="324000" y="1900080"/>
            <a:ext cx="835164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формирования и структура АК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 algn="just">
              <a:lnSpc>
                <a:spcPct val="107000"/>
              </a:lnSpc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АК должен соответствовать требованиям пункта 36 Порядка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 algn="just">
              <a:lnSpc>
                <a:spcPct val="107000"/>
              </a:lnSpc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состоит из председателя АК, заместителя председателя АК, ответственного секретаря АК, членов АК, имеющих равное право голоса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 algn="just">
              <a:lnSpc>
                <a:spcPct val="107000"/>
              </a:lnSpc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й состав АК определяется приказом министерства образования с указанием председателя, заместителя председателя, ответственного секретаря и членов АК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 algn="just">
              <a:lnSpc>
                <a:spcPct val="107000"/>
              </a:lnSpc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 создается сроком на один календарный год. Срок осуществления АК функций и организационных задач исчисляются с даты издания приказа министерства образования об утверждении персонального состава АК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 algn="just">
              <a:lnSpc>
                <a:spcPct val="107000"/>
              </a:lnSpc>
              <a:buClr>
                <a:srgbClr val="000000"/>
              </a:buClr>
              <a:buSzPct val="87000"/>
              <a:buFont typeface="Times New Roman"/>
              <a:buAutoNum type="arabicPeriod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персонального состава АК производится с соблюдением требований, предусмотренных пунктом 36 Порядка. При этом срок осуществления функций и организационных задач новым членом АК ограничивается сроком осуществления функций и организационных задач АК.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2"/>
          <p:cNvSpPr/>
          <p:nvPr/>
        </p:nvSpPr>
        <p:spPr>
          <a:xfrm>
            <a:off x="395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3"/>
          <a:stretch/>
        </p:blipFill>
        <p:spPr>
          <a:xfrm>
            <a:off x="306360" y="2567160"/>
            <a:ext cx="8677440" cy="1006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"/>
          <p:cNvPicPr/>
          <p:nvPr/>
        </p:nvPicPr>
        <p:blipFill>
          <a:blip r:embed="rId4"/>
          <a:srcRect l="3887" t="6112" r="1231" b="6760"/>
          <a:stretch/>
        </p:blipFill>
        <p:spPr>
          <a:xfrm>
            <a:off x="307800" y="3716280"/>
            <a:ext cx="8317080" cy="151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2"/>
          <p:cNvSpPr/>
          <p:nvPr/>
        </p:nvSpPr>
        <p:spPr>
          <a:xfrm>
            <a:off x="395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5" name="TextBox 2"/>
          <p:cNvSpPr/>
          <p:nvPr/>
        </p:nvSpPr>
        <p:spPr>
          <a:xfrm>
            <a:off x="828720" y="2133720"/>
            <a:ext cx="792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ляцию о нарушении Порядка участник подает  в день проведения экзамена по соответствующему учебному предмету члену ГЭК, не покидая ППЭ.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Апелляция о несогласии с выставленными баллами подается в течение двух рабочих дней, следующим за официальным днем объявления результатов ГИА по соответствующему учебному предмету.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extBox 1" descr=""/>
          <p:cNvPicPr/>
          <p:nvPr/>
        </p:nvPicPr>
        <p:blipFill>
          <a:blip r:embed="rId1"/>
          <a:stretch/>
        </p:blipFill>
        <p:spPr>
          <a:xfrm>
            <a:off x="-49320" y="195120"/>
            <a:ext cx="9388440" cy="5731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C:\Users\Екатерина 0.5\Desktop\1091_0.jpg"/>
          <p:cNvPicPr/>
          <p:nvPr/>
        </p:nvPicPr>
        <p:blipFill>
          <a:blip r:embed="rId2"/>
          <a:stretch/>
        </p:blipFill>
        <p:spPr>
          <a:xfrm>
            <a:off x="6227640" y="5722920"/>
            <a:ext cx="2830680" cy="966960"/>
          </a:xfrm>
          <a:prstGeom prst="rect">
            <a:avLst/>
          </a:prstGeom>
          <a:ln w="0">
            <a:noFill/>
          </a:ln>
        </p:spPr>
      </p:pic>
      <p:sp>
        <p:nvSpPr>
          <p:cNvPr id="368" name="TextBox 2"/>
          <p:cNvSpPr/>
          <p:nvPr/>
        </p:nvSpPr>
        <p:spPr>
          <a:xfrm>
            <a:off x="395280" y="1268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работы АК в 2025 год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3"/>
          <a:stretch/>
        </p:blipFill>
        <p:spPr>
          <a:xfrm>
            <a:off x="252360" y="2562120"/>
            <a:ext cx="8639280" cy="173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23T07:47:40Z</dcterms:created>
  <dc:creator>Юлия Мухамедшина</dc:creator>
  <dc:description/>
  <dc:language>en-US</dc:language>
  <cp:lastModifiedBy>Владимир Самочеляев</cp:lastModifiedBy>
  <dcterms:modified xsi:type="dcterms:W3CDTF">2025-04-03T09:45:54Z</dcterms:modified>
  <cp:revision>1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